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wmf" ContentType="image/x-wmf"/>
  <Override PartName="/ppt/media/image22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79A-896B-42F9-A10B-0147D768E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496F-6087-4135-91E5-F4307D036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F6AB-FDC1-4DAB-98D7-8C553291A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6F02-0E92-404F-A6E6-CABD32F490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7FE9-7CD5-4632-A701-3E441E2A55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6CC7-2C36-45E7-AFE7-C00AA7FD2F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6E0-A9B7-415A-8572-EC687AF913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B76F-DB97-492A-A501-DAEA655A7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2880-5743-499E-A323-537E0D738A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43C5-7E2B-4FDF-89AD-CF2EBE402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6B43-8C70-43F5-B840-BAD858617C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2A95-6402-4B2A-B736-0F263C9D0E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9434-8EFA-40AD-8E7C-B1BD47C308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F4F0-9AE5-49EC-AAE5-70C2C3D3CF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A5DD-5D49-457C-8EFD-415ADBAEC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9DA7-15AC-4264-8203-269ACB853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EE26-6989-470C-A518-BCA855ACC4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8A2D-C2BB-448A-853A-55283942B8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5B69-7AA8-4558-A4B2-FBD41A584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64BB-0402-4639-B39A-059A4898C2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4D7-FC77-46A7-9AB2-ECD23D19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AEA-744B-4275-923C-CADCF2D5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3EC-0477-45D1-90AB-8B584ADE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90D-0272-4C63-9C13-569A10AA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0EC5-F370-4864-88E9-A942FCF0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1307-A5C1-44C4-988E-CA49B91B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638-AFC9-4B43-AF38-E9328472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C085-228E-4E2A-8DCE-8EE02C47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39A-78CB-40F2-8124-DC691BC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9463-8743-4A79-91D9-9449AC1C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B144-12A2-4CF6-BC71-9BD62540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D97-A2B2-4D90-A73F-FCE9C535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08DB-1591-4503-A7B8-F85B4C7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4D7C-A591-4C81-82C0-CEA2EA8C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3E38-E099-4249-B36B-2E83805F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75FC-C265-44CF-9269-03F310D5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AB0D-B502-41B1-ACA8-7BAC57F4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ED32-4183-4A16-907E-62BBC7C4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BF7E-C85E-4A12-975C-12CD9D0D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57DA-A0B2-40A3-86FD-35434123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1C50-D224-4B2E-986C-F34186AA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495C-B1C6-4B9B-BDB9-8CE616FC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D50-EF6B-46EA-95A8-7E89D732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8CCB-093C-40B3-B419-C51B8F16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4D75-2CF0-4E51-ADF7-39307A4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552B-74B1-4D6D-AFB8-1F11BF7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5382-1CEA-40D9-8A9B-739ACE54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6552-4E67-4508-9108-0C471771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3F39-ECF2-434C-9A05-0BABC536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6511-0244-45E8-996E-EB9B8014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3363-96C3-4A42-B0B2-BC522B94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84D91-5CD2-462C-8D55-9CF9E866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7DE2-E803-4B5D-AA61-8E9362F6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CB3-4FCD-4F3D-B472-6DAE8E7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F0EB-24F8-480C-85D9-360CDE74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B74B-7303-4059-A732-A827FAF3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A45E-A534-47AD-BF3E-0B2AF4A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8E8F-E1C3-4D5C-98B8-C5E2010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1E28-97EC-4385-932E-4736B068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E22DD-0308-4636-9F05-DDC2E13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1D0B-732A-40B2-BDD4-4662670A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1056-C02E-4DD2-9E9B-99BE2650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C3A9C-7733-4679-A0B1-99BA9EA7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7FBEB-5AA3-4206-8B2B-9C004968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E9A-93BA-4033-B1CC-4188D7B6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E277-7052-44C3-8BFA-5A6BC413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53B32-081D-4650-A71C-4199AF46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171C-D815-4B03-91B4-E0707ED6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AFBF-00AB-4CAF-9A7B-296851F8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1E14-131C-4FBF-8FD8-141E3060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934E-B2F7-473A-A5E0-488FBC2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F282-3AD3-4C68-972F-2D5BEEED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81244-D016-4B0A-AD77-6803646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FAA0-AF62-4FA7-940E-5ABFF3F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B6344-B3B7-41CD-AEFA-B4F247D0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C1F-AC39-41AD-9EAF-799C9261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CF26C-26BE-4F94-AA2D-6A9FE20D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75A-3AC6-46B9-853D-E2EC559C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2B1-CDFA-4DF1-836A-8A1882B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E6A-62A6-46B2-9BF6-70E9254B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0DA6-5C38-4BA7-8B05-BB7F51866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Oval 8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50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>
                <a:gd name="textAreaLeft" fmla="*/ 0 w 7782120"/>
                <a:gd name="textAreaRight" fmla="*/ 7782480 w 7782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>
                <a:gd name="textAreaLeft" fmla="*/ 0 w 7920000"/>
                <a:gd name="textAreaRight" fmla="*/ 7920360 w 79200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DEDC-1DA5-467D-A7FD-F01E4D86F230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C3DB-5937-4C44-8A2D-0AEB45E62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140" name="Oval 8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0FCB-670F-4A78-A84B-54EBA2FFE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187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>
                <a:gd name="textAreaLeft" fmla="*/ 0 w 7782120"/>
                <a:gd name="textAreaRight" fmla="*/ 7782480 w 7782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>
                <a:gd name="textAreaLeft" fmla="*/ 0 w 7920000"/>
                <a:gd name="textAreaRight" fmla="*/ 7920360 w 79200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10A6-EC27-4471-9E40-4DA501CAA57B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PresSealFlag"/>
          <p:cNvPicPr/>
          <p:nvPr/>
        </p:nvPicPr>
        <p:blipFill>
          <a:blip r:embed="rId1"/>
          <a:stretch/>
        </p:blipFill>
        <p:spPr>
          <a:xfrm>
            <a:off x="1600200" y="2279520"/>
            <a:ext cx="6324480" cy="429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7528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60ee"/>
                </a:solidFill>
                <a:latin typeface="Capitals"/>
              </a:rPr>
              <a:t>Presidential Appointments: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cc66"/>
                </a:solidFill>
                <a:latin typeface="Baskerville Semibold"/>
              </a:rPr>
              <a:t>Process and Politic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60ee"/>
                </a:solidFill>
                <a:latin typeface="Capitals"/>
              </a:rPr>
              <a:t>The Role of the Cabinet in the Modern Era</a:t>
            </a:r>
            <a:endParaRPr b="1" lang="en-US" sz="40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352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isory group to the Presi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binet secretaries head the fifteen executive depar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 President execute laws and assist in decision-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4" descr="cabinet_blog_PS-0331"/>
          <p:cNvPicPr/>
          <p:nvPr/>
        </p:nvPicPr>
        <p:blipFill>
          <a:blip r:embed="rId1"/>
          <a:stretch/>
        </p:blipFill>
        <p:spPr>
          <a:xfrm>
            <a:off x="4038480" y="2209680"/>
            <a:ext cx="480060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6" name="Text Box 5"/>
          <p:cNvSpPr/>
          <p:nvPr/>
        </p:nvSpPr>
        <p:spPr>
          <a:xfrm>
            <a:off x="4114800" y="5486400"/>
            <a:ext cx="46483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e5b"/>
                </a:solidFill>
                <a:latin typeface="Times New Roman"/>
              </a:rPr>
              <a:t>President Obama holds a full cabinet mee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PresSealFlag"/>
          <p:cNvPicPr/>
          <p:nvPr/>
        </p:nvPicPr>
        <p:blipFill>
          <a:blip r:embed="rId1"/>
          <a:stretch/>
        </p:blipFill>
        <p:spPr>
          <a:xfrm>
            <a:off x="1600200" y="2279520"/>
            <a:ext cx="6324480" cy="429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981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60ee"/>
                </a:solidFill>
                <a:latin typeface="Capitals"/>
              </a:rPr>
              <a:t>Presidential Appointments: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cc66"/>
                </a:solidFill>
                <a:latin typeface="Baskerville Semibold"/>
              </a:rPr>
              <a:t>The Confirmation Process</a:t>
            </a:r>
            <a:endParaRPr b="1" lang="en-US" sz="36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1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The President                     Appoints a Nomine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8" descr="Official_portrait_of_Barack_Obama"/>
          <p:cNvPicPr/>
          <p:nvPr/>
        </p:nvPicPr>
        <p:blipFill>
          <a:blip r:embed="rId1"/>
          <a:stretch/>
        </p:blipFill>
        <p:spPr>
          <a:xfrm>
            <a:off x="3505320" y="2590920"/>
            <a:ext cx="2286000" cy="225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301" name="Group 48"/>
          <p:cNvGrpSpPr/>
          <p:nvPr/>
        </p:nvGrpSpPr>
        <p:grpSpPr>
          <a:xfrm>
            <a:off x="6324480" y="4267080"/>
            <a:ext cx="2210040" cy="1600200"/>
            <a:chOff x="6324480" y="4267080"/>
            <a:chExt cx="2210040" cy="1600200"/>
          </a:xfrm>
        </p:grpSpPr>
        <p:sp>
          <p:nvSpPr>
            <p:cNvPr id="302" name="Text Box 30"/>
            <p:cNvSpPr/>
            <p:nvPr/>
          </p:nvSpPr>
          <p:spPr>
            <a:xfrm>
              <a:off x="6324480" y="4267080"/>
              <a:ext cx="2210040" cy="1600200"/>
            </a:xfrm>
            <a:prstGeom prst="rect">
              <a:avLst/>
            </a:prstGeom>
            <a:solidFill>
              <a:srgbClr val="5b87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askerville Semibold"/>
                </a:rPr>
                <a:t>Interest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askerville Semibold"/>
                </a:rPr>
                <a:t>Influe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3" name="Picture 31" descr=""/>
            <p:cNvPicPr/>
            <p:nvPr/>
          </p:nvPicPr>
          <p:blipFill>
            <a:blip r:embed="rId2"/>
            <a:stretch/>
          </p:blipFill>
          <p:spPr>
            <a:xfrm>
              <a:off x="6934320" y="4876920"/>
              <a:ext cx="95256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Group 47"/>
          <p:cNvGrpSpPr/>
          <p:nvPr/>
        </p:nvGrpSpPr>
        <p:grpSpPr>
          <a:xfrm>
            <a:off x="380880" y="4267080"/>
            <a:ext cx="2286000" cy="1600200"/>
            <a:chOff x="380880" y="4267080"/>
            <a:chExt cx="2286000" cy="1600200"/>
          </a:xfrm>
        </p:grpSpPr>
        <p:sp>
          <p:nvSpPr>
            <p:cNvPr id="305" name="Text Box 22"/>
            <p:cNvSpPr/>
            <p:nvPr/>
          </p:nvSpPr>
          <p:spPr>
            <a:xfrm>
              <a:off x="380880" y="4267080"/>
              <a:ext cx="2286000" cy="1600200"/>
            </a:xfrm>
            <a:prstGeom prst="rect">
              <a:avLst/>
            </a:prstGeom>
            <a:solidFill>
              <a:srgbClr val="5b87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askerville Semibold"/>
                </a:rPr>
                <a:t>FBI Investig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6" name="Picture 33" descr="600px-US-FBI-Seal_svg"/>
            <p:cNvPicPr/>
            <p:nvPr/>
          </p:nvPicPr>
          <p:blipFill>
            <a:blip r:embed="rId3"/>
            <a:stretch/>
          </p:blipFill>
          <p:spPr>
            <a:xfrm>
              <a:off x="990720" y="464832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40"/>
          <p:cNvGrpSpPr/>
          <p:nvPr/>
        </p:nvGrpSpPr>
        <p:grpSpPr>
          <a:xfrm>
            <a:off x="304920" y="1981080"/>
            <a:ext cx="2743200" cy="1371600"/>
            <a:chOff x="304920" y="1981080"/>
            <a:chExt cx="2743200" cy="1371600"/>
          </a:xfrm>
        </p:grpSpPr>
        <p:sp>
          <p:nvSpPr>
            <p:cNvPr id="308" name="Text Box 17"/>
            <p:cNvSpPr/>
            <p:nvPr/>
          </p:nvSpPr>
          <p:spPr>
            <a:xfrm>
              <a:off x="304920" y="1981080"/>
              <a:ext cx="2743200" cy="1371600"/>
            </a:xfrm>
            <a:prstGeom prst="rect">
              <a:avLst/>
            </a:prstGeom>
            <a:solidFill>
              <a:srgbClr val="5b87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askerville Semibold"/>
                </a:rPr>
                <a:t>White House Revie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Picture 35" descr=""/>
            <p:cNvPicPr/>
            <p:nvPr/>
          </p:nvPicPr>
          <p:blipFill>
            <a:blip r:embed="rId4"/>
            <a:stretch/>
          </p:blipFill>
          <p:spPr>
            <a:xfrm>
              <a:off x="914400" y="2361960"/>
              <a:ext cx="152388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37"/>
          <p:cNvSpPr/>
          <p:nvPr/>
        </p:nvSpPr>
        <p:spPr>
          <a:xfrm>
            <a:off x="228600" y="3352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White House staff vets potential cabinet nomin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019920" y="3429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minees fill out financial disclosure 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41"/>
          <p:cNvSpPr/>
          <p:nvPr/>
        </p:nvSpPr>
        <p:spPr>
          <a:xfrm>
            <a:off x="228600" y="5867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BI runs background checks on nomin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3"/>
          <p:cNvSpPr/>
          <p:nvPr/>
        </p:nvSpPr>
        <p:spPr>
          <a:xfrm>
            <a:off x="6172200" y="5867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est groups weigh in on cabinet nomin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4"/>
          <p:cNvSpPr/>
          <p:nvPr/>
        </p:nvSpPr>
        <p:spPr>
          <a:xfrm>
            <a:off x="3429000" y="4952880"/>
            <a:ext cx="2438280" cy="64260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President chooses a nomin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45"/>
          <p:cNvGrpSpPr/>
          <p:nvPr/>
        </p:nvGrpSpPr>
        <p:grpSpPr>
          <a:xfrm>
            <a:off x="6324480" y="1981080"/>
            <a:ext cx="2209680" cy="1447560"/>
            <a:chOff x="6324480" y="1981080"/>
            <a:chExt cx="2209680" cy="1447560"/>
          </a:xfrm>
        </p:grpSpPr>
        <p:sp>
          <p:nvSpPr>
            <p:cNvPr id="316" name="Text Box 20"/>
            <p:cNvSpPr/>
            <p:nvPr/>
          </p:nvSpPr>
          <p:spPr>
            <a:xfrm>
              <a:off x="6324480" y="1981080"/>
              <a:ext cx="2209680" cy="1447560"/>
            </a:xfrm>
            <a:prstGeom prst="rect">
              <a:avLst/>
            </a:prstGeom>
            <a:solidFill>
              <a:srgbClr val="5b87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skerville Semibold"/>
                </a:rPr>
                <a:t>Financial Disclosure For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Picture 25" descr=""/>
            <p:cNvPicPr/>
            <p:nvPr/>
          </p:nvPicPr>
          <p:blipFill>
            <a:blip r:embed="rId5"/>
            <a:stretch/>
          </p:blipFill>
          <p:spPr>
            <a:xfrm>
              <a:off x="6933960" y="251424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2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Senate             Confirmation Hear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6705720" y="274320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 Bold"/>
              </a:rPr>
              <a:t>Defense Secretary nominee Robert Gates testifies before the Senate Armed Services Committe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7" descr="gates-topper"/>
          <p:cNvPicPr/>
          <p:nvPr/>
        </p:nvPicPr>
        <p:blipFill>
          <a:blip r:embed="rId1"/>
          <a:stretch/>
        </p:blipFill>
        <p:spPr>
          <a:xfrm>
            <a:off x="2209680" y="1828800"/>
            <a:ext cx="4419720" cy="28256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8686800" cy="1676520"/>
          </a:xfrm>
          <a:prstGeom prst="rect">
            <a:avLst/>
          </a:prstGeom>
          <a:solidFill>
            <a:srgbClr val="5b87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</a:rPr>
              <a:t>Senate Committee members grill nominees on subjects ranging from policy to personal background to ta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</a:rPr>
              <a:t>The Senate standing committee votes up or down on a nominee and passes recommendation on to the full Se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2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Senate             Confirmation Hear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3" descr="Hillary+Clinton+Testifies+Senate+Confirmation+Wi4t-G4CYH1l"/>
          <p:cNvPicPr/>
          <p:nvPr/>
        </p:nvPicPr>
        <p:blipFill>
          <a:blip r:embed="rId1"/>
          <a:stretch/>
        </p:blipFill>
        <p:spPr>
          <a:xfrm>
            <a:off x="4478400" y="2895480"/>
            <a:ext cx="4208400" cy="31924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Confirmation hearings may go smoothly, and nominees sail through committee as Secretary of State Hila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Clinton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However, so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nominees may run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into problems,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some must ev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withdraw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352680" y="609588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 Bold"/>
              </a:rPr>
              <a:t>Secretary of State Hilary Clinton testifies before the       Senate Foreign Relations during her confirmation he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2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Senate             Confirmation Hear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</a:rPr>
              <a:t>Treasury Secretary nominee Tim Geithner encountered problems in his reporting of taxes to the IRS, but was later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</a:rPr>
              <a:t>Tom Daschle, Obama’s pick for Health and Human Services, was forced to withdraw his nomination after he reportedly failed to report $140,000 in federa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80880" y="6032520"/>
            <a:ext cx="358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 Bold"/>
              </a:rPr>
              <a:t>Treasury Secretary nominee Tim Geithner testifies before the         Senate Finance Committ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7" descr="geithner2_0121_E_20090121113817"/>
          <p:cNvPicPr/>
          <p:nvPr/>
        </p:nvPicPr>
        <p:blipFill>
          <a:blip r:embed="rId1"/>
          <a:stretch/>
        </p:blipFill>
        <p:spPr>
          <a:xfrm>
            <a:off x="685800" y="3733920"/>
            <a:ext cx="3276720" cy="21812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330" name="Picture 9" descr="PH2009020301723"/>
          <p:cNvPicPr/>
          <p:nvPr/>
        </p:nvPicPr>
        <p:blipFill>
          <a:blip r:embed="rId2"/>
          <a:stretch/>
        </p:blipFill>
        <p:spPr>
          <a:xfrm>
            <a:off x="5181480" y="3733920"/>
            <a:ext cx="3200400" cy="222732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331" name="Text Box 10"/>
          <p:cNvSpPr/>
          <p:nvPr/>
        </p:nvSpPr>
        <p:spPr>
          <a:xfrm>
            <a:off x="4952880" y="603252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 Bold"/>
              </a:rPr>
              <a:t>Tom Daschle’s press conference announcing his withdrawal from  cabinet consider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3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Full Senate Vo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914400" y="56386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 Bold"/>
              </a:rPr>
              <a:t>If the cabinet nominee passes out of committee, a vote is taken by the full sen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8" descr="senate_in_session"/>
          <p:cNvPicPr/>
          <p:nvPr/>
        </p:nvPicPr>
        <p:blipFill>
          <a:blip r:embed="rId1"/>
          <a:stretch/>
        </p:blipFill>
        <p:spPr>
          <a:xfrm>
            <a:off x="1905120" y="1828800"/>
            <a:ext cx="5715000" cy="38098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4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Once Confirmed, the Cabinet Nominee is Sworn 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38080" y="5715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 Bold"/>
              </a:rPr>
              <a:t>Colin Powell takes the oath of office in 2001 to become Secretary of State under President George W. Bu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9" descr="ap_powell_081104_ssh"/>
          <p:cNvPicPr/>
          <p:nvPr/>
        </p:nvPicPr>
        <p:blipFill>
          <a:blip r:embed="rId1"/>
          <a:stretch/>
        </p:blipFill>
        <p:spPr>
          <a:xfrm>
            <a:off x="2057400" y="1828800"/>
            <a:ext cx="4761000" cy="36846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60ee"/>
                </a:solidFill>
                <a:latin typeface="Capitals"/>
              </a:rPr>
              <a:t>Factors That Influence Presidential Appointments</a:t>
            </a:r>
            <a:endParaRPr b="1" lang="en-US" sz="36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y affil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ide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ident’s policy 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of the nominee:  expertise, professional experience, education,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favors - rewarding personal or political fri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400px-George_W_Bush_and_Condoleezza_Rice_2008"/>
          <p:cNvPicPr/>
          <p:nvPr/>
        </p:nvPicPr>
        <p:blipFill>
          <a:blip r:embed="rId1"/>
          <a:stretch/>
        </p:blipFill>
        <p:spPr>
          <a:xfrm>
            <a:off x="6045120" y="1600200"/>
            <a:ext cx="2793960" cy="419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41" name="Text Box 5"/>
          <p:cNvSpPr/>
          <p:nvPr/>
        </p:nvSpPr>
        <p:spPr>
          <a:xfrm>
            <a:off x="6019920" y="5791320"/>
            <a:ext cx="281916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0e5b"/>
                </a:solidFill>
                <a:latin typeface="Times New Roman"/>
              </a:rPr>
              <a:t>President Bush chose Condeleezza Rice as Secretary of State in his second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60ee"/>
                </a:solidFill>
                <a:latin typeface="Capitals"/>
              </a:rPr>
              <a:t>Factors That Influence Presidential Appointments </a:t>
            </a:r>
            <a:r>
              <a:rPr b="1" lang="en-US" sz="2400" spc="-1" strike="noStrike">
                <a:solidFill>
                  <a:srgbClr val="4460ee"/>
                </a:solidFill>
                <a:latin typeface="Capitals"/>
              </a:rPr>
              <a:t>(cont.)</a:t>
            </a:r>
            <a:endParaRPr b="1" lang="en-US" sz="2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fill campaig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fro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part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 group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ng a “saf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inee” acceptab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to the Se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 coverage of nomin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4" descr="PH2008121701700"/>
          <p:cNvPicPr/>
          <p:nvPr/>
        </p:nvPicPr>
        <p:blipFill>
          <a:blip r:embed="rId1"/>
          <a:stretch/>
        </p:blipFill>
        <p:spPr>
          <a:xfrm>
            <a:off x="4876920" y="2057400"/>
            <a:ext cx="4070160" cy="303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45" name="Text Box 5"/>
          <p:cNvSpPr/>
          <p:nvPr/>
        </p:nvSpPr>
        <p:spPr>
          <a:xfrm>
            <a:off x="4876920" y="5105520"/>
            <a:ext cx="4038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0e5b"/>
                </a:solidFill>
                <a:latin typeface="Times New Roman"/>
              </a:rPr>
              <a:t>Obama announces Colorado governor Ken Salazar as Secretary of the Interi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The Constitu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Presidential Appoin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rticle II:  The Executiv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nd appointment pow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of the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143000" y="4495680"/>
            <a:ext cx="7086600" cy="1556280"/>
          </a:xfrm>
          <a:prstGeom prst="rect">
            <a:avLst/>
          </a:prstGeom>
          <a:solidFill>
            <a:srgbClr val="66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Lucida Calligraphy"/>
                <a:ea typeface="Osaka"/>
              </a:rPr>
              <a:t>The executive Power shall be vested in a President of the United States of Amer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895480" cy="19620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rticle II:  The Executiv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nd appointment pow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of the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80880" y="4419720"/>
            <a:ext cx="8458200" cy="1629000"/>
          </a:xfrm>
          <a:prstGeom prst="rect">
            <a:avLst/>
          </a:prstGeom>
          <a:solidFill>
            <a:srgbClr val="66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Lucida Calligraphy"/>
                <a:ea typeface="Osaka"/>
              </a:rPr>
              <a:t>...he may require the Opinion, in writing, of the principal Officer in each of the executive Departments, upon any subject relating to the Duties of their respective Of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895480" cy="19620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rticle II:  The Executiv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nd appointment pow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of the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09480" y="4495680"/>
            <a:ext cx="8153640" cy="2012760"/>
          </a:xfrm>
          <a:prstGeom prst="rect">
            <a:avLst/>
          </a:prstGeom>
          <a:solidFill>
            <a:srgbClr val="66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Lucida Calligraphy"/>
                <a:ea typeface="Osaka"/>
              </a:rPr>
              <a:t>...he shall nominate, and by and with the Advice and Consent of the Senate, shall appoint Ambassadors, other public Ministers and Consuls... and all other Officers of the United States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895480" cy="19620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pperplate Gothic Bold"/>
              </a:rPr>
              <a:t>The Constitution and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Copperplate Gothic Bold"/>
              </a:rPr>
              <a:t>Presidential Appoin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727360" y="225756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skerville Semi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skerville Semibold"/>
              </a:rPr>
              <a:t>Identify the Constitutional requirements for appointing federal government offici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skerville Semibold"/>
              </a:rPr>
              <a:t>2)  How do these requirements promote checks and balances between the three branches of the federal gover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6124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0ee"/>
                </a:solidFill>
                <a:latin typeface="Capitals"/>
              </a:rPr>
              <a:t>The President’s Cabinet:  Important Facts</a:t>
            </a:r>
            <a:endParaRPr b="1" lang="en-US" sz="2800" spc="-1" strike="noStrike">
              <a:solidFill>
                <a:srgbClr val="4460ee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390600" y="1357200"/>
            <a:ext cx="3495600" cy="2332080"/>
            <a:chOff x="390600" y="1357200"/>
            <a:chExt cx="3495600" cy="2332080"/>
          </a:xfrm>
        </p:grpSpPr>
        <p:sp>
          <p:nvSpPr>
            <p:cNvPr id="259" name="Oval 6"/>
            <p:cNvSpPr/>
            <p:nvPr/>
          </p:nvSpPr>
          <p:spPr>
            <a:xfrm>
              <a:off x="390600" y="1357200"/>
              <a:ext cx="2301840" cy="170964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There are   15 cabi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departm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tod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2438280" y="2774880"/>
              <a:ext cx="144792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1"/>
          <p:cNvGrpSpPr/>
          <p:nvPr/>
        </p:nvGrpSpPr>
        <p:grpSpPr>
          <a:xfrm>
            <a:off x="5572440" y="3962520"/>
            <a:ext cx="3266640" cy="2057400"/>
            <a:chOff x="5572440" y="3962520"/>
            <a:chExt cx="3266640" cy="2057400"/>
          </a:xfrm>
        </p:grpSpPr>
        <p:sp>
          <p:nvSpPr>
            <p:cNvPr id="262" name="Oval 10"/>
            <p:cNvSpPr/>
            <p:nvPr/>
          </p:nvSpPr>
          <p:spPr>
            <a:xfrm>
              <a:off x="6340320" y="3962520"/>
              <a:ext cx="2498760" cy="205740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Only Congr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can create executive departm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5572440" y="4163400"/>
              <a:ext cx="892800" cy="480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24"/>
          <p:cNvGrpSpPr/>
          <p:nvPr/>
        </p:nvGrpSpPr>
        <p:grpSpPr>
          <a:xfrm>
            <a:off x="5577120" y="1657440"/>
            <a:ext cx="3219120" cy="1952640"/>
            <a:chOff x="5577120" y="1657440"/>
            <a:chExt cx="3219120" cy="1952640"/>
          </a:xfrm>
        </p:grpSpPr>
        <p:sp>
          <p:nvSpPr>
            <p:cNvPr id="265" name="Oval 9"/>
            <p:cNvSpPr/>
            <p:nvPr/>
          </p:nvSpPr>
          <p:spPr>
            <a:xfrm>
              <a:off x="6273720" y="1657440"/>
              <a:ext cx="2522520" cy="186228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Cabinet not specifically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included in constitu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 flipV="1">
              <a:off x="5577120" y="3116160"/>
              <a:ext cx="929520" cy="493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33"/>
          <p:cNvGrpSpPr/>
          <p:nvPr/>
        </p:nvGrpSpPr>
        <p:grpSpPr>
          <a:xfrm>
            <a:off x="380880" y="3352680"/>
            <a:ext cx="3513240" cy="2438640"/>
            <a:chOff x="380880" y="3352680"/>
            <a:chExt cx="3513240" cy="2438640"/>
          </a:xfrm>
        </p:grpSpPr>
        <p:sp>
          <p:nvSpPr>
            <p:cNvPr id="268" name="Oval 12"/>
            <p:cNvSpPr/>
            <p:nvPr/>
          </p:nvSpPr>
          <p:spPr>
            <a:xfrm>
              <a:off x="380880" y="3352680"/>
              <a:ext cx="3038760" cy="243864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Cabinet based upon tradition and secretaries serve at the pleasure of the Presid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 flipV="1">
              <a:off x="3380400" y="4151160"/>
              <a:ext cx="513720" cy="194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30"/>
          <p:cNvGrpSpPr/>
          <p:nvPr/>
        </p:nvGrpSpPr>
        <p:grpSpPr>
          <a:xfrm>
            <a:off x="3733920" y="838080"/>
            <a:ext cx="1981080" cy="2210040"/>
            <a:chOff x="3733920" y="838080"/>
            <a:chExt cx="1981080" cy="2210040"/>
          </a:xfrm>
        </p:grpSpPr>
        <p:sp>
          <p:nvSpPr>
            <p:cNvPr id="271" name="Oval 8"/>
            <p:cNvSpPr/>
            <p:nvPr/>
          </p:nvSpPr>
          <p:spPr>
            <a:xfrm>
              <a:off x="3733920" y="838080"/>
              <a:ext cx="1981080" cy="175284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Cabinet secretaries advise the Presid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7"/>
            <p:cNvSpPr/>
            <p:nvPr/>
          </p:nvSpPr>
          <p:spPr>
            <a:xfrm>
              <a:off x="4724280" y="259092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Group 32"/>
          <p:cNvGrpSpPr/>
          <p:nvPr/>
        </p:nvGrpSpPr>
        <p:grpSpPr>
          <a:xfrm>
            <a:off x="3505320" y="4724280"/>
            <a:ext cx="2590560" cy="2133720"/>
            <a:chOff x="3505320" y="4724280"/>
            <a:chExt cx="2590560" cy="2133720"/>
          </a:xfrm>
        </p:grpSpPr>
        <p:sp>
          <p:nvSpPr>
            <p:cNvPr id="274" name="Oval 11"/>
            <p:cNvSpPr/>
            <p:nvPr/>
          </p:nvSpPr>
          <p:spPr>
            <a:xfrm>
              <a:off x="3505320" y="4876920"/>
              <a:ext cx="2590560" cy="198108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Secretaries appointed by President &amp; confirmed by the Sena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 flipH="1">
              <a:off x="4723920" y="4724280"/>
              <a:ext cx="11160" cy="1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8"/>
          <p:cNvGrpSpPr/>
          <p:nvPr/>
        </p:nvGrpSpPr>
        <p:grpSpPr>
          <a:xfrm>
            <a:off x="3886200" y="2895480"/>
            <a:ext cx="1676520" cy="1828800"/>
            <a:chOff x="3886200" y="2895480"/>
            <a:chExt cx="1676520" cy="1828800"/>
          </a:xfrm>
        </p:grpSpPr>
        <p:sp>
          <p:nvSpPr>
            <p:cNvPr id="277" name="AutoShape 7"/>
            <p:cNvSpPr/>
            <p:nvPr/>
          </p:nvSpPr>
          <p:spPr>
            <a:xfrm>
              <a:off x="3886200" y="2895480"/>
              <a:ext cx="1676520" cy="1828800"/>
            </a:xfrm>
            <a:custGeom>
              <a:avLst/>
              <a:gdLst>
                <a:gd name="textAreaLeft" fmla="*/ 81720 w 1676520"/>
                <a:gd name="textAreaRight" fmla="*/ 1594800 w 1676520"/>
                <a:gd name="textAreaTop" fmla="*/ 81720 h 1828800"/>
                <a:gd name="textAreaBottom" fmla="*/ 1747080 h 1828800"/>
              </a:gdLst>
              <a:ahLst/>
              <a:rect l="textAreaLeft" t="textAreaTop" r="textAreaRight" b="textAreaBottom"/>
              <a:pathLst>
                <a:path w="21600" h="23562">
                  <a:moveTo>
                    <a:pt x="3600" y="0"/>
                  </a:moveTo>
                  <a:arcTo wR="3600" hR="3600" stAng="16200000" swAng="-5400000"/>
                  <a:lnTo>
                    <a:pt x="0" y="19962"/>
                  </a:lnTo>
                  <a:arcTo wR="3600" hR="3600" stAng="10800000" swAng="-5400000"/>
                  <a:lnTo>
                    <a:pt x="18000" y="235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Group 19"/>
            <p:cNvGrpSpPr/>
            <p:nvPr/>
          </p:nvGrpSpPr>
          <p:grpSpPr>
            <a:xfrm>
              <a:off x="4122720" y="2982600"/>
              <a:ext cx="1219320" cy="1638000"/>
              <a:chOff x="4122720" y="2982600"/>
              <a:chExt cx="1219320" cy="1638000"/>
            </a:xfrm>
          </p:grpSpPr>
          <p:pic>
            <p:nvPicPr>
              <p:cNvPr id="279" name="Picture 20" descr="scrap-dr"/>
              <p:cNvPicPr/>
              <p:nvPr/>
            </p:nvPicPr>
            <p:blipFill>
              <a:blip r:embed="rId1"/>
              <a:stretch/>
            </p:blipFill>
            <p:spPr>
              <a:xfrm>
                <a:off x="4122720" y="2982600"/>
                <a:ext cx="121932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WordArt 21"/>
              <p:cNvSpPr txBox="1"/>
              <p:nvPr/>
            </p:nvSpPr>
            <p:spPr>
              <a:xfrm>
                <a:off x="4122720" y="4125600"/>
                <a:ext cx="1219320" cy="49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333399"/>
                    </a:solidFill>
                    <a:latin typeface="Impact"/>
                  </a:rPr>
                  <a:t>Cabinet</a:t>
                </a:r>
                <a:endParaRPr b="0" lang="en-US" sz="2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3399"/>
                  </a:solidFill>
                  <a:latin typeface="Impact"/>
                  <a:ea typeface="Impact"/>
                </a:endParaRPr>
              </a:p>
            </p:txBody>
          </p:sp>
        </p:grpSp>
      </p:grp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dfc08d"/>
                </a:solidFill>
                <a:latin typeface="Baskerville Semibold"/>
              </a:rPr>
              <a:t>Washington established a precedent by forming the first cabine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george-washington-pi"/>
          <p:cNvPicPr/>
          <p:nvPr/>
        </p:nvPicPr>
        <p:blipFill>
          <a:blip r:embed="rId1"/>
          <a:stretch/>
        </p:blipFill>
        <p:spPr>
          <a:xfrm>
            <a:off x="609480" y="685800"/>
            <a:ext cx="4119840" cy="3368520"/>
          </a:xfrm>
          <a:prstGeom prst="rect">
            <a:avLst/>
          </a:prstGeom>
          <a:ln w="9360">
            <a:solidFill>
              <a:srgbClr val="dfc08d"/>
            </a:solidFill>
            <a:miter/>
          </a:ln>
        </p:spPr>
      </p:pic>
      <p:sp>
        <p:nvSpPr>
          <p:cNvPr id="283" name="WordArt 4"/>
          <p:cNvSpPr txBox="1"/>
          <p:nvPr/>
        </p:nvSpPr>
        <p:spPr>
          <a:xfrm>
            <a:off x="380880" y="5257800"/>
            <a:ext cx="853452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old"/>
              </a:rPr>
              <a:t>Why do you think Washington decided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old"/>
              <a:ea typeface="Arial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old"/>
              </a:rPr>
              <a:t>to form a cabinet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old"/>
              <a:ea typeface="Arial Bold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1981080" y="4495680"/>
            <a:ext cx="488952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old"/>
              </a:rPr>
              <a:t>What's a "precedent?"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old"/>
              <a:ea typeface="Arial Bold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T029003A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1828800" y="6172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143000" y="4572000"/>
            <a:ext cx="2133720" cy="7333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President            George Washingt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00200" y="6019560"/>
            <a:ext cx="6400800" cy="533160"/>
          </a:xfrm>
          <a:prstGeom prst="rect">
            <a:avLst/>
          </a:prstGeom>
          <a:solidFill>
            <a:srgbClr val="990000"/>
          </a:solidFill>
          <a:ln w="57240">
            <a:solidFill>
              <a:srgbClr val="0a0e5b"/>
            </a:solidFill>
            <a:miter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33"/>
                </a:solidFill>
                <a:latin typeface="Copperplate Gothic Bold"/>
              </a:rPr>
              <a:t>Washington’s First Cabinet</a:t>
            </a:r>
            <a:endParaRPr b="1" lang="en-US" sz="28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590920" y="3505320"/>
            <a:ext cx="1676160" cy="71640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Secretary of W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Henry Kn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3886200" y="2209680"/>
            <a:ext cx="1981080" cy="8013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Secretary of Treasu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Alexander Hamilt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5181480" y="3505320"/>
            <a:ext cx="1752840" cy="8445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Secretary of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Thomas Jeffers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6705720" y="4495680"/>
            <a:ext cx="1828800" cy="7333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Attorney General Edmund Randolp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2:34:47Z</dcterms:created>
  <dc:creator>Julie Strong</dc:creator>
  <dc:description/>
  <dc:language>en-US</dc:language>
  <cp:lastModifiedBy>hberndt</cp:lastModifiedBy>
  <dcterms:modified xsi:type="dcterms:W3CDTF">2010-05-04T13:31:57Z</dcterms:modified>
  <cp:revision>29</cp:revision>
  <dc:subject/>
  <dc:title>Presidential Appointments: </dc:title>
</cp:coreProperties>
</file>